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7824-ADE6-46E4-BB6D-F3C5DCB2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8D57-777E-44F2-BA88-CE8E8E60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B071-A5E2-4B43-885F-68DF2AC2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4BFA-77C4-46E4-92AA-36A030A9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19DF-067A-4A57-B4FE-C00D856C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FCD1-7A4C-454C-8F8D-C7FD8BBE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5A4B-C99D-4C42-81DF-87BCE573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6882-718D-4B2A-9964-7C625BD2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C540-D26E-45FC-854B-261F5C50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55E1-7E69-43B4-892A-5441FBDE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4676-2720-44EC-BB6C-CA3A92A2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0729-E914-47AC-A1DA-5CD940F5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AD5C-064B-42D1-B78D-6BA2C48C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B0E3-113E-4238-A0BE-78DBC6B0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DC4B-3F52-4483-B2E3-C2A0B308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4AB2-A268-44D2-8968-A933D8A2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06E7-203B-49DD-A9CA-30C37969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338A-DCE2-4019-A51D-CD6A950A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2F2A-BB02-46F9-AD7E-30548DEE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11CA-FAB1-491B-81E7-59910CC4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8577-ECD5-43BD-9EB5-3958583E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7842-6408-430B-AE82-2E04077B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1258-C577-4B4E-9EB7-94ED58F6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2578-2DEA-43CB-887D-A44F5954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6154-84DB-4544-A919-B7C94376F1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8798-6DEB-4B91-BAFD-DCE4FB8E88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hyperlink" Target="http://images.google.com/imgres?imgurl=http://i-love-cartoons.com/snags/clipart/christmas/peanuts/Christmas-Snoopy-Lights-Tree.jpg&amp;imgrefurl=http://www.americamagazine.org/blog/blog.cfm%3Fblog_id%3D2%26m%3D12%26y%3D2007&amp;usg=__rBhIcJYs_2UpnNrw6aJKo0ccmrg=&amp;h=464&amp;w=324&amp;sz=117&amp;hl=en&amp;start=9&amp;tbnid=Hav2nOUV16fYhM:&amp;tbnh=128&amp;tbnw=89&amp;prev=/images%3Fq%3Dchristmas%2Bpics%26gbv%3D2%26hl%3Den%26sa%3DX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oviesmedia.ign.com/movies/image/elf-10-10-sm.jpg&amp;imgrefurl=http://movies.ign.com/articles/453/453529p1.html&amp;usg=__n7uS0MNBQRpNUpgsz7O3L0QA5sQ=&amp;h=432&amp;w=288&amp;sz=31&amp;hl=en&amp;start=23&amp;tbnid=Iq0EW5UyAEiyjM:&amp;tbnh=126&amp;tbnw=84&amp;prev=/images%3Fq%3Dwill%2Bfarrell%2Bas%2Belf%26start%3D2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img2.timeinc.net/ew/dynamic/imgs/041217/16230__asandler_l.jpg&amp;imgrefurl=http://areavoices.org/hodgepodge/%3Farchive%3D2007-12&amp;usg=__qfsaFSp-PXGYlUF74EXcCkYEK1Q=&amp;h=300&amp;w=400&amp;sz=27&amp;hl=en&amp;start=8&amp;tbnid=2yDT3cH8KXbhdM:&amp;tbnh=93&amp;tbnw=124&amp;prev=/images%3Fq%3Dadam%2Bsandler%2Bchristmas%26gbv%3D2%26hl%3Den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hyperlink" Target="http://www.5minutesforgoinggreen.com/wp-content/uploads/2008/07/sleepover-presents-400a081407.jpg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images.google.com/imgres?imgurl=http://santarchy.com/wp-content/uploads/2007/08/drunk-santa-london.jpg&amp;imgrefurl=http://santarchy.com/&amp;usg=__wLC1Tlq7x3fxAQ6YHHn6D_YsGU4=&amp;h=755&amp;w=500&amp;sz=50&amp;hl=en&amp;start=9&amp;tbnid=w8kgAoGQiD3rZM:&amp;tbnh=142&amp;tbnw=94&amp;prev=/images%3Fq%3Dsanta%26gbv%3D2%26hl%3Den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eb.mit.edu/elex/www/secret_directory/chuck%2520norris%2520-%2520x-mas.jpg&amp;imgrefurl=http://blogs.mit.edu/CS/blogs/elex/archive/category/557.aspx&amp;usg=__eB11kJEavV3BN6ji9cb_-nnasHk=&amp;h=350&amp;w=200&amp;sz=51&amp;hl=en&amp;start=1&amp;tbnid=3zchDxrBy3EuiM:&amp;tbnh=120&amp;tbnw=69&amp;prev=/images%3Fq%3Dchuck%2Bnorris%2Bchristmas%26gbv%3D2%26hl%3Den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icanhascheezburger.files.wordpress.com/2007/12/funny-pictures-its-santa-cat.jpg&amp;imgrefurl=http://myronsrandomthoughts.wordpress.com/category/pets/&amp;usg=__YZkqYyJq38XUV8_ZKakg5HN-ptk=&amp;h=534&amp;w=400&amp;sz=45&amp;hl=en&amp;start=38&amp;tbnid=hkjxRoOnSna_3M:&amp;tbnh=132&amp;tbnw=99&amp;prev=/images%3Fq%3Dfunny%2Bsanta%26start%3D20%26gbv%3D2%26ndsp%3D20%26hl%3Den%26sa%3DN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s.google.com/imgres?imgurl=http://z.about.com/d/dc/1/0/p/V/grinch2.jpg&amp;imgrefurl=http://dc.about.com/od/christmasevents/ss/WaterskiSanta_4.htm&amp;usg=__FA7fZChoEuuOodFXy5rIXkxTW4o=&amp;h=803&amp;w=800&amp;sz=145&amp;hl=en&amp;start=11&amp;tbnid=CoCBakfsgoRPgM:&amp;tbnh=143&amp;tbnw=142&amp;prev=/images%3Fq%3Dgrinch%26gbv%3D2%26hl%3Den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rod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05000" y="1600200"/>
            <a:ext cx="2934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65640" cy="457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348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352680" y="3505320"/>
            <a:ext cx="5791320" cy="335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4495680"/>
            <a:ext cx="335268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0"/>
            <a:ext cx="586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844720" cy="4267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632448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42670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315200" y="0"/>
            <a:ext cx="1828800" cy="3333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19520" y="34290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809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ERRY CHRIST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3733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5943600" cy="312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809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0" y="0"/>
            <a:ext cx="3657600" cy="3724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5943600" y="3809880"/>
            <a:ext cx="3200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En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rry Christ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essed New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Art and Technology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1:16:04Z</dcterms:created>
  <dc:creator>kids</dc:creator>
  <dc:description/>
  <dc:language>en-US</dc:language>
  <cp:lastModifiedBy>Patrick Mooney</cp:lastModifiedBy>
  <dcterms:modified xsi:type="dcterms:W3CDTF">2008-12-15T15:53:44Z</dcterms:modified>
  <cp:revision>12</cp:revision>
  <dc:subject/>
  <dc:title>Austin</dc:title>
</cp:coreProperties>
</file>